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38D-D956-4FDA-A9D0-BCB2DEAF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8D3-35EF-4604-AC61-66604DA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779-70B5-4C31-9720-474BE5BD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2BD-7065-4B49-A8D3-42E66DAA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AA6-1A07-49D3-A1B9-2564179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EC0-A60F-46F9-B4F3-12B8F81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F29-152F-47A1-9733-103AF84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410-7882-44F0-8669-FEEE6C0E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2CD-34DC-4347-B327-9F8E582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3BC-FC34-40E9-A229-A6CDA4A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0FC-23E1-4AB0-9DCC-BE80A49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D3B-84E9-45B2-828A-A72F255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A8B-1A1D-41A6-9044-62E2C036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8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8991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t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ferma la pobre muchach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que guardar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0240" y="21337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la pobre muchacha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2880" y="32907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que guardar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1800" y="4433760"/>
            <a:ext cx="29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en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1080" y="565308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dolor de garga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dolor de cabeza tambié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¿Tiene fiebre y escalofrí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 Está siempre cans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¿Qué tiene? ¿Tiene la gr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9880" y="19051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garg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2909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cabeza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8440" y="40528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fiebre y escalofrí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9520" y="51195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siempre cans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560" y="6186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la gr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á el joven? ¿Está triste o cont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Y la joven, ¿Cómo está? ¿está bien o está enfe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Y la señora, ¿está nerviosa o muy tranqui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El señor, ¿está de mal humor o de buen hum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800" y="237636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joven esta cont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24280"/>
            <a:ext cx="38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joven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9160" y="4815000"/>
            <a:ext cx="40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señora esta nerv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0600" y="62485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señor esta de mal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200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vidad Inicial; Pd.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Esta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caracteristica y condi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haracteristics and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2 ways of saying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:   SER and ESTAR. Each of these verbs has VERY DIFFERENT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expresses a trait or a characteristic that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uchacho ES moreno. Él ES muy sin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dificio ES muy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762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R expresses a temporary state or conditon; a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an no ESTA bien hoy. ESTA en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La joven ESTA cans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STA nervios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6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indicate if the sentence describes a CHARACTERISTIC or a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nf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gu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sinc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nerv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y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n ca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impa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dcterms:modified xsi:type="dcterms:W3CDTF">2011-04-08T18:26:20Z</dcterms:modified>
  <cp:revision>8</cp:revision>
  <dc:subject/>
  <dc:title>Slide 1</dc:title>
</cp:coreProperties>
</file>